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1C6E4-1D07-4C6F-BA59-FEE46DECC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E1DC2-8F4E-4E32-AD16-2037FAE16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D8C2C-6477-4CA9-9634-A0D07331E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5C5D0-EA72-4DFF-8171-DD9FE464D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13409-0722-4E91-8617-E4C4C5B6E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7324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17324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DD6CB-67A4-41F3-B94A-C6902A440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7324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7324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41DC0-793E-48BB-AEB4-938B525F3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7324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7324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15592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93061-FB18-43B1-840F-122F61D68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7324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66BD1-520F-44B5-85A9-DBA51B4BA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117324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96BF7-2A45-4C77-ABE4-4FC4F2818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7324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7324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5592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17324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C47A5-D72A-4E28-8924-CE8BE60F2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FFEF3-BE08-4A07-A27B-6DB48553A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7324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7324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5592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15592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961DB-2AAA-4879-BBF4-9595747DB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7324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7324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15592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17324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210A1-D6FE-46F6-9351-9FB172A51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7324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324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117324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E14B2-4100-4ED8-85BD-E3F8CB52F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7324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7324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5592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17324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515592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01EF6-CB98-4132-A06D-E8BFEB841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7324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732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8012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42888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11732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8012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42888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267C2-EA2B-4CE7-8407-D5E7B957F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2B1F9-B6AD-4BA0-97A5-6657F23B6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060DA-2E24-47BA-9760-B2C20D303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2DF0E-66F3-4CC9-948C-29C389A20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76490-A1F9-466D-88F6-0D0D9D37B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A520F-13A5-4F64-B296-AE13B9080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50B37-509B-4737-BC85-3D084ACC1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265C2-8CDF-4FF3-B8F5-1921B2FE4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Arial"/>
                <a:ea typeface="Gulim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Gulim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Arial"/>
                <a:ea typeface="Gulim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Gulim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Arial"/>
                <a:ea typeface="Gulim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0B2BE-2E07-4A87-9500-1B18144D5571}" type="slidenum">
              <a:rPr b="0" lang="ko-KR" sz="1400" spc="-1" strike="noStrike">
                <a:solidFill>
                  <a:srgbClr val="000000"/>
                </a:solidFill>
                <a:latin typeface="Arial"/>
                <a:ea typeface="Guli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928080"/>
            <a:ext cx="7772400" cy="15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Arial"/>
                <a:ea typeface="Gulim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Gulim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Arial"/>
                <a:ea typeface="Gulim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Gulim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Arial"/>
                <a:ea typeface="Gulim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2D120-8121-4D30-BD45-8BDD3D829BFF}" type="slidenum">
              <a:rPr b="0" lang="ko-KR" sz="1400" spc="-1" strike="noStrike">
                <a:solidFill>
                  <a:srgbClr val="000000"/>
                </a:solidFill>
                <a:latin typeface="Arial"/>
                <a:ea typeface="Guli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" name=""/>
          <p:cNvGrpSpPr/>
          <p:nvPr/>
        </p:nvGrpSpPr>
        <p:grpSpPr>
          <a:xfrm>
            <a:off x="1066680" y="380880"/>
            <a:ext cx="7924680" cy="6324840"/>
            <a:chOff x="1066680" y="380880"/>
            <a:chExt cx="7924680" cy="6324840"/>
          </a:xfrm>
        </p:grpSpPr>
        <p:sp>
          <p:nvSpPr>
            <p:cNvPr id="128" name=""/>
            <p:cNvSpPr/>
            <p:nvPr/>
          </p:nvSpPr>
          <p:spPr>
            <a:xfrm>
              <a:off x="1066680" y="1646280"/>
              <a:ext cx="7773840" cy="3219480"/>
            </a:xfrm>
            <a:prstGeom prst="ellipse">
              <a:avLst/>
            </a:prstGeom>
            <a:solidFill>
              <a:srgbClr val="67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727360" y="957240"/>
              <a:ext cx="6264000" cy="4137120"/>
            </a:xfrm>
            <a:prstGeom prst="ellipse">
              <a:avLst/>
            </a:prstGeom>
            <a:solidFill>
              <a:srgbClr val="67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68360" y="2565360"/>
              <a:ext cx="5132520" cy="4140360"/>
            </a:xfrm>
            <a:prstGeom prst="ellipse">
              <a:avLst/>
            </a:prstGeom>
            <a:solidFill>
              <a:srgbClr val="67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218200" y="380880"/>
              <a:ext cx="3094200" cy="2529000"/>
            </a:xfrm>
            <a:prstGeom prst="ellipse">
              <a:avLst/>
            </a:prstGeom>
            <a:solidFill>
              <a:srgbClr val="67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" name=""/>
          <p:cNvSpPr/>
          <p:nvPr/>
        </p:nvSpPr>
        <p:spPr>
          <a:xfrm>
            <a:off x="1523880" y="2057400"/>
            <a:ext cx="6307200" cy="20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  <a:ea typeface="Gulim"/>
              </a:rPr>
              <a:t>Quality Control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  <a:ea typeface="Gulim"/>
              </a:rPr>
              <a:t>Mechanisms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7324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Times New Roman"/>
                <a:ea typeface="Gulim"/>
              </a:rPr>
              <a:t>Quality control for individual CPAs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9320" y="19051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Gulim"/>
              </a:rPr>
              <a:t>Members in public practice must practice with a firm enrolled in an approved peer review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Gulim"/>
              </a:rPr>
              <a:t>As of 2000, a new member must have 150 semester hours of college edu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Gulim"/>
              </a:rPr>
              <a:t>Members must obtain continuing edu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Gulim"/>
              </a:rPr>
              <a:t>Public practice: ? hours of CPE for three y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Gulim"/>
              </a:rPr>
              <a:t>Other members: ? hours of CPE for three y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457200" y="376560"/>
            <a:ext cx="8458200" cy="6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5360" bIns="4536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3366"/>
                </a:solidFill>
                <a:latin typeface="Times New Roman"/>
                <a:ea typeface="Gulim"/>
              </a:rPr>
              <a:t>Quality control for accounting firms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1067760" y="1452600"/>
            <a:ext cx="2360520" cy="681120"/>
          </a:xfrm>
          <a:prstGeom prst="rect">
            <a:avLst/>
          </a:prstGeom>
          <a:solidFill>
            <a:srgbClr val="ffffff"/>
          </a:solidFill>
          <a:ln w="12600">
            <a:solidFill>
              <a:srgbClr val="a034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9360" rIns="99360" tIns="49680" bIns="49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Quality Contr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Stand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1066680" y="2133720"/>
            <a:ext cx="2363760" cy="969840"/>
          </a:xfrm>
          <a:prstGeom prst="rect">
            <a:avLst/>
          </a:prstGeom>
          <a:solidFill>
            <a:srgbClr val="0099cc"/>
          </a:solidFill>
          <a:ln w="12600">
            <a:solidFill>
              <a:srgbClr val="a034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9360" rIns="99360" tIns="49680" bIns="49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Gulim"/>
              </a:rPr>
              <a:t>Standards applicable to a CP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Gulim"/>
              </a:rPr>
              <a:t>firm to aid in satisfy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Gulim"/>
              </a:rPr>
              <a:t>generally accepted audi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Gulim"/>
              </a:rPr>
              <a:t>standar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1066680" y="4267080"/>
            <a:ext cx="2438640" cy="2212560"/>
            <a:chOff x="1066680" y="4267080"/>
            <a:chExt cx="2438640" cy="2212560"/>
          </a:xfrm>
        </p:grpSpPr>
        <p:sp>
          <p:nvSpPr>
            <p:cNvPr id="139" name=""/>
            <p:cNvSpPr/>
            <p:nvPr/>
          </p:nvSpPr>
          <p:spPr>
            <a:xfrm flipH="1">
              <a:off x="1066680" y="4267080"/>
              <a:ext cx="2438640" cy="6447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a034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7000" rIns="117000" tIns="58320" bIns="58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Gulim"/>
                </a:rPr>
                <a:t>Division of CPA Firm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1066680" y="4916880"/>
              <a:ext cx="1249920" cy="912960"/>
            </a:xfrm>
            <a:prstGeom prst="rect">
              <a:avLst/>
            </a:prstGeom>
            <a:solidFill>
              <a:srgbClr val="0099cc"/>
            </a:solidFill>
            <a:ln w="12600">
              <a:solidFill>
                <a:srgbClr val="a034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7000" rIns="117000" tIns="58320" bIns="58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Gulim"/>
                </a:rPr>
                <a:t>SE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Gulim"/>
                </a:rPr>
                <a:t>Practi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Gulim"/>
                </a:rPr>
                <a:t>Sec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flipH="1">
              <a:off x="2321640" y="4916880"/>
              <a:ext cx="1183680" cy="912960"/>
            </a:xfrm>
            <a:prstGeom prst="rect">
              <a:avLst/>
            </a:prstGeom>
            <a:solidFill>
              <a:srgbClr val="0099cc"/>
            </a:solidFill>
            <a:ln w="12600">
              <a:solidFill>
                <a:srgbClr val="a034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7000" rIns="117000" tIns="58320" bIns="58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Gulim"/>
                </a:rPr>
                <a:t>Privat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Gulim"/>
                </a:rPr>
                <a:t>Compani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Gulim"/>
                </a:rPr>
                <a:t>Practi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Gulim"/>
                </a:rPr>
                <a:t>Sec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 flipH="1">
              <a:off x="1066680" y="5834880"/>
              <a:ext cx="2438640" cy="644760"/>
            </a:xfrm>
            <a:prstGeom prst="rect">
              <a:avLst/>
            </a:prstGeom>
            <a:solidFill>
              <a:srgbClr val="0099cc"/>
            </a:solidFill>
            <a:ln w="12600">
              <a:solidFill>
                <a:srgbClr val="a034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7000" rIns="117000" tIns="58320" bIns="58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Gulim"/>
                </a:rPr>
                <a:t>Organizations intended to hel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Gulim"/>
                </a:rPr>
                <a:t>firms meet quality contro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Gulim"/>
                </a:rPr>
                <a:t>standards and GA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3" name=""/>
          <p:cNvSpPr/>
          <p:nvPr/>
        </p:nvSpPr>
        <p:spPr>
          <a:xfrm flipH="1">
            <a:off x="3731400" y="2666880"/>
            <a:ext cx="2210040" cy="90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a034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9360" rIns="99360" tIns="49680" bIns="49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Generally Accep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Auditing Standa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3729960" y="3600360"/>
            <a:ext cx="2212920" cy="1200240"/>
          </a:xfrm>
          <a:prstGeom prst="rect">
            <a:avLst/>
          </a:prstGeom>
          <a:solidFill>
            <a:srgbClr val="0099cc"/>
          </a:solidFill>
          <a:ln w="12600">
            <a:solidFill>
              <a:srgbClr val="a034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9360" rIns="99360" tIns="49680" bIns="49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Standards applicable t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Each aud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6324480" y="4267080"/>
            <a:ext cx="2286000" cy="2288880"/>
            <a:chOff x="6324480" y="4267080"/>
            <a:chExt cx="2286000" cy="2288880"/>
          </a:xfrm>
        </p:grpSpPr>
        <p:sp>
          <p:nvSpPr>
            <p:cNvPr id="146" name=""/>
            <p:cNvSpPr/>
            <p:nvPr/>
          </p:nvSpPr>
          <p:spPr>
            <a:xfrm flipH="1">
              <a:off x="6324480" y="4267080"/>
              <a:ext cx="2286000" cy="6670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a034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Gulim"/>
                </a:rPr>
                <a:t>Peer Revie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H="1">
              <a:off x="6324480" y="4939560"/>
              <a:ext cx="2286000" cy="1616400"/>
            </a:xfrm>
            <a:prstGeom prst="rect">
              <a:avLst/>
            </a:prstGeom>
            <a:solidFill>
              <a:srgbClr val="0099cc"/>
            </a:solidFill>
            <a:ln w="12600">
              <a:solidFill>
                <a:srgbClr val="a034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Gulim"/>
                </a:rPr>
                <a:t>Method to determine wheth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Gulim"/>
                </a:rPr>
                <a:t>a CPA firm meets qualit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Gulim"/>
                </a:rPr>
                <a:t>control standard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6400800" y="1295280"/>
            <a:ext cx="2286000" cy="1828440"/>
            <a:chOff x="6400800" y="1295280"/>
            <a:chExt cx="2286000" cy="1828440"/>
          </a:xfrm>
        </p:grpSpPr>
        <p:sp>
          <p:nvSpPr>
            <p:cNvPr id="149" name=""/>
            <p:cNvSpPr/>
            <p:nvPr/>
          </p:nvSpPr>
          <p:spPr>
            <a:xfrm flipH="1">
              <a:off x="6400800" y="1295280"/>
              <a:ext cx="2286000" cy="532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a034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Gulim"/>
                </a:rPr>
                <a:t>PCAO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flipH="1">
              <a:off x="6400800" y="1832400"/>
              <a:ext cx="2286000" cy="1291320"/>
            </a:xfrm>
            <a:prstGeom prst="rect">
              <a:avLst/>
            </a:prstGeom>
            <a:solidFill>
              <a:srgbClr val="0099cc"/>
            </a:solidFill>
            <a:ln w="12600">
              <a:solidFill>
                <a:srgbClr val="a034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360" rIns="99360" tIns="49680" bIns="49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Gulim"/>
                </a:rPr>
                <a:t>Governs accounting firm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Gulim"/>
                </a:rPr>
                <a:t>Who audit public compani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0"/>
            <a:ext cx="906804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  <a:ea typeface="Gulim"/>
              </a:rPr>
              <a:t>Statement of Quality Control Standards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143000" y="1066680"/>
            <a:ext cx="8001000" cy="50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CPA firms are required to establis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  <a:ea typeface="Gulim"/>
              </a:rPr>
              <a:t>quality control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 policies and proced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that address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  <a:ea typeface="Gulim"/>
              </a:rPr>
              <a:t>five elements of qua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  <a:ea typeface="Gulim"/>
              </a:rPr>
              <a:t>control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Gulim"/>
              </a:rPr>
              <a:t>independence, integrity, and objectiv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Gulim"/>
              </a:rPr>
              <a:t>personnel manag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Gulim"/>
              </a:rPr>
              <a:t>acceptance/continuation of clients and engag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Gulim"/>
              </a:rPr>
              <a:t>engagement perform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Gulim"/>
              </a:rPr>
              <a:t>monitor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338560" y="4572000"/>
            <a:ext cx="4914720" cy="224784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2749680" y="4730760"/>
            <a:ext cx="4025880" cy="596880"/>
          </a:xfrm>
          <a:prstGeom prst="rect">
            <a:avLst/>
          </a:prstGeom>
          <a:solidFill>
            <a:srgbClr val="ffffff"/>
          </a:solidFill>
          <a:ln w="1260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295280" y="1235160"/>
            <a:ext cx="7620120" cy="325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Arial"/>
                <a:ea typeface="Gulim"/>
              </a:rPr>
              <a:t>SEC Practice Section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Gulim"/>
              </a:rPr>
              <a:t> - for firms with audit clients whose stock is publicly trade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Arial"/>
                <a:ea typeface="Gulim"/>
              </a:rPr>
              <a:t>Private Companies Practice Section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Gulim"/>
              </a:rPr>
              <a:t> -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Gulim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Gulim"/>
              </a:rPr>
              <a:t>for firms with audit clients whose stock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Gulim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Gulim"/>
              </a:rPr>
              <a:t>is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Arial"/>
                <a:ea typeface="Gulim"/>
              </a:rPr>
              <a:t>not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Gulim"/>
              </a:rPr>
              <a:t> publicly trade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Gulim"/>
              </a:rPr>
              <a:t>Membership in either section is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Arial"/>
                <a:ea typeface="Gulim"/>
              </a:rPr>
              <a:t>optional except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Gulim"/>
              </a:rPr>
              <a:t> firms with SEC clients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Arial"/>
                <a:ea typeface="Gulim"/>
              </a:rPr>
              <a:t>must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Gulim"/>
              </a:rPr>
              <a:t> join the SEC Practice Sec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  <a:ea typeface="Gulim"/>
              </a:rPr>
              <a:t>The AICPA Division for CPA Firms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Gulim"/>
              </a:rPr>
              <a:t>: two sections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805480" y="4724280"/>
            <a:ext cx="40158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ccff"/>
                </a:solidFill>
                <a:latin typeface="Arial"/>
                <a:ea typeface="Gulim"/>
              </a:rPr>
              <a:t>Joe’s Gas St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143000" y="1406520"/>
            <a:ext cx="8844120" cy="30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00"/>
                </a:solidFill>
                <a:latin typeface="Arial"/>
                <a:ea typeface="Gulim"/>
              </a:rPr>
              <a:t>-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members of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  <a:ea typeface="Gulim"/>
              </a:rPr>
              <a:t>either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 practice se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must undergo peer revie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- members of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  <a:ea typeface="Gulim"/>
              </a:rPr>
              <a:t>neither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 practice se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  <a:ea typeface="Gulim"/>
              </a:rPr>
              <a:t>also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 must undergo peer reviews whi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ar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  <a:ea typeface="Gulim"/>
              </a:rPr>
              <a:t>less extensiv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 than those requir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of practice section memb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Gulim"/>
              </a:rPr>
              <a:t>The AICPA Division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Gulim"/>
              </a:rPr>
              <a:t>and Peer Review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4114800" y="4495680"/>
            <a:ext cx="4729320" cy="221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1402200" y="1143000"/>
            <a:ext cx="7678080" cy="49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00"/>
                </a:solidFill>
                <a:latin typeface="Arial"/>
                <a:ea typeface="Gulim"/>
              </a:rPr>
              <a:t>-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a review of a CPA firm’s compli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with its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  <a:ea typeface="Gulim"/>
              </a:rPr>
              <a:t>quality control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- required every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  <a:ea typeface="Gulim"/>
              </a:rPr>
              <a:t>thre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 yea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- firms choose the firm to review th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  <a:ea typeface="Gulim"/>
              </a:rPr>
              <a:t>or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 request a review te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- the firm being reviewed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  <a:ea typeface="Gulim"/>
              </a:rPr>
              <a:t>pay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 t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review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- upon review completion, the review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prepares a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  <a:ea typeface="Gulim"/>
              </a:rPr>
              <a:t>repor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 stating conclu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Gulim"/>
              </a:rPr>
              <a:t>and recommend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  <a:ea typeface="Gulim"/>
              </a:rPr>
              <a:t>Peer Review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Times New Roman"/>
                <a:ea typeface="Gulim"/>
              </a:rPr>
              <a:t>PCAOB </a:t>
            </a:r>
            <a:br>
              <a:rPr sz="4000"/>
            </a:br>
            <a:r>
              <a:rPr b="1" lang="en-US" sz="2400" spc="-1" strike="noStrike">
                <a:solidFill>
                  <a:srgbClr val="003366"/>
                </a:solidFill>
                <a:latin typeface="Times New Roman"/>
                <a:ea typeface="Gulim"/>
              </a:rPr>
              <a:t>(Public Company Accounting Oversight Board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830556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Gulim"/>
              </a:rPr>
              <a:t>Not a government ag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Gulim"/>
              </a:rPr>
              <a:t>A private, non-profit corporation under the oversight of SE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Gulim"/>
              </a:rPr>
              <a:t>Self-funded from accounting firms and public compan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Gulim"/>
              </a:rPr>
              <a:t>5 mem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Gulim"/>
              </a:rPr>
              <a:t>Appointed by SE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Gulim"/>
              </a:rPr>
              <a:t>Only 2 CP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Gulim"/>
              </a:rPr>
              <a:t>Chairman: a CPA but not practice for the last 5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19320" indent="-3049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Currently, William McDonough (appointed in April 200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Gulim"/>
              </a:rPr>
              <a:t>Major ro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Gulim"/>
              </a:rPr>
              <a:t>Registration of public accounting fi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19320" indent="-3049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All accounting firms that audit SEC firms must register with PCAO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Gulim"/>
              </a:rPr>
              <a:t>Inspection and enforcements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19320" indent="-3049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Accounting that audits more than 100 public companies: every y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19320" indent="-3049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Accounting firms that audits no more than 100: every 3 ye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19320" indent="-3049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Accounting firms that does not audit public companies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19320" indent="-3049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can impose monetary damages, suspend accountings firms or CP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Gulim"/>
              </a:rPr>
              <a:t>Setting accounting and auditing  standa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19320" indent="-3049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Gulim"/>
              </a:rPr>
              <a:t>Auditing standards of non-public compani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24T23:47:08Z</dcterms:created>
  <dc:creator>jongsoo Han, Ph.D</dc:creator>
  <dc:description/>
  <dc:language>en-US</dc:language>
  <cp:lastModifiedBy>jinhua</cp:lastModifiedBy>
  <dcterms:modified xsi:type="dcterms:W3CDTF">2008-10-08T01:35:10Z</dcterms:modified>
  <cp:revision>76</cp:revision>
  <dc:subject/>
  <dc:title>Chapter 2 course outline</dc:title>
</cp:coreProperties>
</file>